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4C7-4C8B-487D-8568-441A48FC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A4A-80E4-48B4-8D06-022798A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BEC-B125-45A0-8470-BF723A5E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536-25F1-4142-8616-499D2051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766-9218-44AD-B1DE-A5CDA039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FB4-CCA7-46EF-86BA-11171054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A9E-FD13-402F-80D9-36B95BC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DC6-9707-4C75-904A-C1FF5AB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E8F-2DE0-4F6C-BAF9-92EFCB2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90D-E95B-4F7E-9F78-B22A5FA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8B5-10F1-49DB-A2DD-E128E95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9FE-7621-4242-B53F-510B823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71C-AA94-4939-8977-588C67C9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362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2096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97180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8862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8098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724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6483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419720" y="25146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3080" y="304920"/>
            <a:ext cx="8458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experiment you have to choose two of the three shapes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9907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99072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38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167652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75248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14600"/>
            <a:ext cx="68580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that can be ma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20040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20040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98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098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5720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486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410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733920"/>
            <a:ext cx="2971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possible combinations of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e same experiment is repeated but with 4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914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914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60948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676520"/>
            <a:ext cx="1447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002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676520"/>
            <a:ext cx="1067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762120"/>
            <a:ext cx="914400" cy="76176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6002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362320"/>
            <a:ext cx="6553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for four sha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04812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9718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812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4290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343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1911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1055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0292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9436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86728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0481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9718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89548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581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4290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3434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42670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5562720"/>
            <a:ext cx="2819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 possible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ool’s P.E department offers pupils a choice of two activiti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838080"/>
            <a:ext cx="312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ies must be chosen from this t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0" y="9144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80880" y="3124080"/>
            <a:ext cx="7963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the different choices a pupil could mak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27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6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276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101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5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5880"/>
            <a:ext cx="426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ine possible ch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65760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8:26:44Z</dcterms:created>
  <dc:creator>LT Scotland</dc:creator>
  <dc:description/>
  <dc:language>en-US</dc:language>
  <cp:lastModifiedBy>Computing Department</cp:lastModifiedBy>
  <dcterms:modified xsi:type="dcterms:W3CDTF">2004-08-10T11:55:14Z</dcterms:modified>
  <cp:revision>11</cp:revision>
  <dc:subject/>
  <dc:title>Access 3 Mathematics: Unit 1 Outcome 3 - Combinations.</dc:title>
</cp:coreProperties>
</file>